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EB607-EADC-4E6D-918D-44307735B1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picvenue.com/night-sky-hd-desktop-backgrounds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goodrichscience.com/21-inner-planet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en.wikipedia.org/wiki/Outer_plan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taken from: http://en.wikipedia.org/wiki/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of Venus in the night sky: http://pixgood.com/venus-in-the-night-sky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mkalty.org/moon-and-earth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en.wikipedia.org/wiki/Milky_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nineplanets.or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2.jpl.nasa.gov/files/images/hi-res/plutoneptune.ti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vintagespace.files.wordpress.com/2011/11/pluto-little-planet.gi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C5C1-8BD1-45CF-A014-B2D793842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40B2-F5CD-4D06-884F-0DD68DCD1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CBEB-BCB0-4F9D-9F49-DE21E5FAE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81E5-C1C7-4BBA-84B9-3E5A8F8C8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75C9-E02B-4B35-9B81-FDE116EE0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5890-A868-4A30-8F7A-A3C5CE06F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184C-8FDE-4795-9D69-2B2CAF15C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9653-D012-489E-86F5-D4A602141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CF7F-C921-4561-8FE5-A9A1A7A7C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62FD-5701-4554-A90E-0A88B1E34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147F-9419-4E0F-89AB-7AAF20CEC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74DD-9AFA-46C2-B862-E7DD8C946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DBBA9-492D-4E7E-9784-DDD9C004C7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ight Sky &amp; Plan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1 &amp; 8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ner Plan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solid rocky su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cury, Venus, Earth, M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038480" y="2238480"/>
            <a:ext cx="48006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er Plan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s giants” because they are made up mostly of g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piter, Saturn, Uranus, Neptu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613400" y="1676520"/>
            <a:ext cx="37274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re some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elestial object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we can see in the sk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un is a medium-sized st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s are massive collections of gases that ar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umino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343400" y="1924200"/>
            <a:ext cx="4419720" cy="42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ts are large, round, celestial objects that orbit around sta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ts are not luminous, but they appear bright because they reflect the light of the Su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343400" y="2392200"/>
            <a:ext cx="4495680" cy="33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ons are smaller celestial objects orbiting around plane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191120" y="2344680"/>
            <a:ext cx="4419360" cy="33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lax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laxies are huge rotating collections of celestial objec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th is part of the Milky Way galax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903920" y="1676520"/>
            <a:ext cx="33750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lan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04920" y="2316240"/>
            <a:ext cx="8534160" cy="33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u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828800" y="198108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warf Pla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uto is considered 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warf plane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cause it can’t clear Neptune out  of its orb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267080" y="2193840"/>
            <a:ext cx="4648320" cy="36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15T03:24:01Z</dcterms:created>
  <dc:creator>rubina khan</dc:creator>
  <dc:description/>
  <dc:language>en-US</dc:language>
  <cp:lastModifiedBy>rubina khan</cp:lastModifiedBy>
  <dcterms:modified xsi:type="dcterms:W3CDTF">2014-10-15T03:52:11Z</dcterms:modified>
  <cp:revision>25</cp:revision>
  <dc:subject/>
  <dc:title>PowerPoint Presentation</dc:title>
</cp:coreProperties>
</file>